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rt of budge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budget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hase 1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ess your personal and financial situation (needs, values, life situation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hase 2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t personal and financial go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hase 3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ate a budget for fixed and variable expenses based on projected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hase 4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nitor current spending (saving, investing) patter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hase 5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re your budget to what you have actually sp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hase 6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 financial progress and revise budgeted amou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13592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goal-setting guidelin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1398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ell-written personal and financial goals SHOULD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 realist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udent working part-time is not likely to be able to afford a new car every couple of ye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 specif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want to save $5,000 for a down payment to buy a house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ve a timefr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want to pay off my credit card within the next 18 month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 the action to be tak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want to start an automatic deposit savings account with monthly withdrawals from 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 account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tting up and maintaining a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055280" y="6323400"/>
            <a:ext cx="164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1008000"/>
          <a:ext cx="6858000" cy="4572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dg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inco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pen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dg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regular expen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 car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irregular expen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ti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tting up and maintaining a budget 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059600" y="6323400"/>
            <a:ext cx="165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43000" y="1143000"/>
          <a:ext cx="6858000" cy="4299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pen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dg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43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and oi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and toll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cal expen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usehold item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i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ool expen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expen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0:27:19Z</dcterms:modified>
  <cp:revision>26</cp:revision>
  <dc:subject/>
  <dc:title>lesson three</dc:title>
</cp:coreProperties>
</file>