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467480" y="299520"/>
            <a:ext cx="960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6931080" y="29988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Special Need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o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mone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sons to work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conomic reas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eas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ial reas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unity reas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66648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1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successful job interview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should you d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efo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interview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nd out as much as you can about the busin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actice your interviewing ski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ink of 2-3 questions that you plan to a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epare proper dress and groo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an to arrive early at the interview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2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successful job interview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61716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2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should you d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du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interview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lax. Be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nswer questions completely and calm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k questions to help you understand the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k when you might hear from the interview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successful job interview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63120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should you d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f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interview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rite down notes on how you can improve for your next intervie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nd a thank-you email right away to the person who interviewed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d you spell the person’s name correctly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d you use the correct job title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2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d you thank the person for the chance to talk with him/her about the job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interview questio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mployers ask lots of questions. You’ll feel more relaxed during your interview if you’ve thought about your answers beforehand. You’ll also impress your interviewer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ow would you answer these questions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at activities have helped you develop your interests and skills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In what types of situations do you do your best work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escribe the teachers or supervisors who motivated you the most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escribe someone with whom you had trouble working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y did you leave your last position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at are your strengths? What do you do best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at are your weaknesses? What have you done to overcome your weaknesses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y are you interested in working here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at do you know about our business or organization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ho is someone you admire? Why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61716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2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ding a pay stub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61572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3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62120" y="1173240"/>
            <a:ext cx="76197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check deductio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61716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2-3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ve you ever wondered why your take-home pay is so much less than your actual earnings? What do all of these deductions mean? Where does your money g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Income Tax (FI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held to pay federal income tax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Insurance Compensation Act (FICA), the official name for Social Secur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held to pay Social Security benefits to you when you reti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 Income Tax (SI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held to pay state income tax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 Disability Insurance (SD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held to pay disability 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1T23:34:35Z</dcterms:modified>
  <cp:revision>39</cp:revision>
  <dc:subject/>
  <dc:title>lesson three</dc:title>
</cp:coreProperties>
</file>